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81120" y="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57680" y="514080"/>
            <a:ext cx="3420720" cy="25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69744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54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FB23F-95B0-4963-BDFB-8D6D284701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ground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quito from poster?  GMOD gears? GMOD Gears + GMO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392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Patrick Phillips donates office space for the help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576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57680" y="514440"/>
            <a:ext cx="3425760" cy="25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857680" y="514440"/>
            <a:ext cx="3427200" cy="257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1218960" y="3257280"/>
            <a:ext cx="66992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1D7-6221-4021-974F-B628E5A1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4A8D-083F-4248-BCBE-1D74E15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0C7-BBE8-4CF7-83EA-5C287167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92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400" y="152388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92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400" y="3669120"/>
            <a:ext cx="249984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00C-A854-4BB4-BAE1-28BB33CB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1D2-0B05-43C3-977A-0512D6F2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D6C-529E-4EEE-9116-1AE74C2F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FB4-CA15-40C9-A5D1-9C1022E0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5AC-2F18-486B-825E-2DBA2A4C3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9200"/>
            <a:ext cx="77644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781-9077-477B-B17A-BFA4EFA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0CA-65FE-4A98-BBEE-96276275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520" y="366912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CC0-68A6-4F8B-8F10-1930BFE7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1523880"/>
            <a:ext cx="378900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9120"/>
            <a:ext cx="7764480" cy="19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D3F-EFA5-4E8F-B318-84D41D47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9200"/>
            <a:ext cx="77644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9F5D5-4651-4DE1-A342-34301CAEC0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320" y="6129360"/>
            <a:ext cx="914400" cy="6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amtools.sourceforge.ne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32000"/>
            <a:ext cx="77724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MOD Me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gust 6-7, 20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ford, 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7440" y="5427720"/>
            <a:ext cx="2322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t Cain, Ph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MOD Project Coordin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tario Institute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ncer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tt@scottcain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2240" y="268200"/>
            <a:ext cx="1712880" cy="12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52920" y="5514840"/>
            <a:ext cx="201924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Gen Sequ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ed in GBrowse2; GBrowse1 may work with some finag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SAM/BAM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560" indent="-275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amtools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age XY-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 density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al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ired 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M/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315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36240"/>
            <a:ext cx="7770960" cy="52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pal: Widely used CMS, ver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 is a set of modules for Drupal to interact with a Chado data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tegrate GBrowse/C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6336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upal/Tr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1190520"/>
            <a:ext cx="8354880" cy="566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895480" y="3271680"/>
            <a:ext cx="3846600" cy="2830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2920" y="1430280"/>
            <a:ext cx="19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HL/OI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don McK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84720" y="2382840"/>
            <a:ext cx="17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an Hol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ch Sk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57680" y="26226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mson 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hen Fick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4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teroperable tools for managing, annotating, and viewing genomic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rowse - genome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lo - genome annotatio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ap - comparative mapping vie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bil and GBrowse_syn - comparative genomics vie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 many other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 community of users and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s, semi-annual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52680" y="45720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M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'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Browse (formerly GBrowse 3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Gen sequencing support for G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pal/Dru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end rearchitectur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databases and render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track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configur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46735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77400"/>
            <a:ext cx="77691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09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0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mplete re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JAX for client side rendering, Google Maps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gmod.org/wiki/JBrow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with GBrowse 1.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use of data adaptors/databases that GBrows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7400"/>
            <a:ext cx="776592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Browse_s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400" y="1625760"/>
            <a:ext cx="9144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8840"/>
            <a:ext cx="777096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row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1200" y="1403280"/>
            <a:ext cx="7619760" cy="473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MOD / NESCent</dc:creator>
  <dc:description/>
  <dc:language>en-US</dc:language>
  <cp:lastModifiedBy>GMOD / NESCent</cp:lastModifiedBy>
  <cp:revision>0</cp:revision>
  <dc:subject/>
  <dc:title>PowerPoint Presentation</dc:title>
</cp:coreProperties>
</file>